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49D-714A-48AE-8819-A263BD5E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FB3-D90F-4BE4-B682-5701E5B0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EB4AF-09D2-48BA-A8C3-A2256A59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64FDA-AD85-44B8-89A0-9D439BAC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D6EFE-45AF-4954-A137-212B3D5E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91E70-4672-448E-A8FD-0DF609AB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22721-9679-482B-B574-E710079B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5DE6A-AAED-411C-B2A7-8921673C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C569C-F7FC-4079-8698-F0112C10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2BD3C-9682-46F7-A24B-7341A5AD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2F421-F99B-4A5D-9786-B9B7ADE5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02FB3-2745-4691-ADC1-A75F08D3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296-4E50-4903-BF94-666728FE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5694E-EA60-411C-AC53-59408CE0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887D4-1F9E-4A3B-B6E7-A50B9217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47D1D-E7BD-47BC-BB5D-BA56452C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F5399-B515-4A83-AAA0-3DCFE69B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F4985-88F8-494A-BAF4-001819F2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0C593-A6FC-4E0F-B57A-712FC053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015FA-D5D6-484D-B9E6-EBE51295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3366F-17D5-4FFA-B537-F3DA30F7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DF5FB-ADBA-4F57-9D00-49EF9296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A5401-E811-4AA1-888E-0CCE2DE1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FD5-3E8B-4A63-BCAD-21A2FDBE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5FC27-4A39-4102-88F0-55E57CCC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0151B-72F6-4B5B-9EF0-3DD03E43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14182-AD9B-44AF-9DB3-4DEAEA27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6D2EB-D2B3-4D8A-99F7-28CB0133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DDC3A-BFF4-4092-8FC3-517B806D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0E35E-8B86-4747-BBEF-2C024134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94B63-2191-4586-A254-C5C6E6B9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2A4E2-84E7-4C15-BD19-8E33E906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2921F-3EDC-4AE5-82CD-258EDBDB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97AF6-945D-4477-B256-20281FD4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AA2F-8487-4FD9-A240-E6AA1418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F25A0-F866-4B9C-BA5C-41C4368A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6F071-51DF-4389-BFF9-2620F706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BAAE2-C0D5-4B9B-9EB5-26673846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0A2D7-4381-4A05-ADDE-486A8A8C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6B164-24F2-467D-8263-36E2120C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886C4-1954-4441-8BC4-C0D935A7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3CE51-4BFD-4416-8028-0BAF9CAE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2C474-6DAE-4734-B48B-508D5C09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CEB05-6DFD-47B6-BDD3-789A50B3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FC302-73BF-4782-B6AD-45E18BEC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B646-722C-4F0C-AB63-E8768880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D5F1E-9A88-4CF5-BF27-4D42E78C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2311C-7692-4018-9A28-24A9AA30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FDCAD-3299-483E-A640-0A8F68AB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51BF6-107C-445C-AAD2-DFF31245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2F2BB-7C18-4ED1-B7BC-6FA22527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1FA22-2EC4-4303-A214-6D71A7B3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D49D1-3016-46E9-96B9-BF883520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98432-214E-48E3-AE6C-6D205411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52D72-56B3-4E05-BA2C-0DBDED71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4ACBA-7C62-4687-BE4A-833C9964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234C-3ECC-4DC4-B794-FC792594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A3E31-76A6-4BF4-9AD7-FC63CDE0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6D785-634A-4DDE-9DB8-2E047957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46353-4448-4AF4-9BE6-C138EC5D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B6E4F-2810-409F-8674-C3B3BB58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3DFE2-CBC0-4EF8-A7C3-E4F790A5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5CAED-B70F-4411-8CFE-85D062BD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123BE-1811-4CAE-8D3B-93F87785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B02272-9FF8-4983-8E23-DFBEC8FE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36635-5326-4CD9-96FE-A79AF0B4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9722C3-1DB6-4B2A-BB6B-D3E42903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9768-AA24-40A5-8D66-FB74BB83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B10A0-5C13-4BA3-A277-FC60ECB4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947CF-A347-45CE-BDA3-B4B0DE02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7497E-9E82-496C-88E3-B8AF4936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AF068E-017C-4EF4-820F-00445F07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477CCE-98F8-432C-8FE5-048B7D76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C35226-1C00-4D24-A7C2-73FDD9C7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5C0B81-B8C6-47A3-8583-F585EB05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C168AA-C0DE-4FA4-A68D-D0B66439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5DA159-736A-4397-AED0-9B768FFD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94017E-9003-440D-B28C-DB411E3E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EA25-C6E5-4CD1-A3C6-0F8CCEE6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95FEBA-2FAA-4E72-98A9-187E02B4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3C74BC-CA2D-4448-B682-2DDC373A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F29C39-DEE4-4A38-82E2-D0648F07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CBD33-C205-4DEE-89C7-8F193388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70B8C8-2516-4DE8-A44E-5525A2C0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E1D0B9-05D3-4C29-9CDC-A6B04AF3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9627CC-3889-4A06-806C-C51D88A0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7BF94-0CCA-4971-BAFE-AC33FEAB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1E2008-0992-452D-A39D-846DBE9C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53F0A-531A-4276-BAED-935259D3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DB66-FAE8-4E09-AE9E-ED506497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6E30C5-F6A3-4D2B-9A94-5F52B348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B03D62-C08B-4E3D-AF4C-9BECAC80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1B13DD-7465-4FA2-BBBE-52B97C87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7E1246-D1E2-46E3-AA0F-D11EF6C4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58CA29-69A4-43EF-9667-1460C723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FE96C2-4422-4FC4-9418-8A353D03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312D65-E78E-4E2A-98A8-E0E5A22B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684144-6C82-4D86-9840-42740553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734C63-A4A0-4567-8264-01B6B138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AEA2EC-B4F0-4A0B-B99F-9C94EDDF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07F5-1FBE-4426-82F7-E233D561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BB73C4-8A97-46BC-B02A-87CC6EAA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F15F0C-2E86-4BDA-B467-225C6F4D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BDCC78-F5DB-469E-A52B-5E54B4FE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CA5891-0A03-49FC-BEB7-F1E44B3F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C0C02-A79E-471E-94EB-D5944B01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AEC648-443C-430E-A1A9-EE655679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1BD7D8-5A84-4081-9BF0-C496AF94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DA286-9B06-4A08-AD3E-2BB19228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100E0-32B7-482E-A856-84CD1273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2C8E6D-FA89-4DE3-BAE9-43967121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BC9-3FF3-41CC-924F-0031933C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C8D3-31A3-4D5A-A1BD-AB28979D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63ED3-22CB-4DA1-A130-9AD2A6E6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066F5D-1105-402F-ACC0-D22F9626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2DECEA-1432-4455-AC67-3F1B6F62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AB490-291F-43C4-A329-750B53BA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D6E40D-ACE5-43C9-9DDA-5659EFE0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F39A3D-E690-4EF6-8733-ED03C0B7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5ABF2F-4429-4691-AAA8-36D2B03C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75DEC-DAAE-4AD3-BEB5-38B738CE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53A56C-8DB3-4AF7-8317-8EBA84AC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CA6BE2-DA4E-43B3-AD99-42C776FC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762D-4846-453D-89EA-CE767112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F96F93-AE00-4018-BC28-D287A54F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202EEC-67E1-429A-AA74-0CFE2BA3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ACFFF9-DF98-4BB1-98D7-90E9701E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58957-3A0B-4607-BB01-8D2ACECD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47C0F5-3DDE-4990-841B-14449D3A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6B9941-0D9A-4317-B7AC-D9DC18CB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DCD8E0-A19F-44D1-A1BE-510210A6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427D49-51A0-4D3E-BCF7-396A613F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3FB274-7D81-4456-A82C-A2E7ED36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43008-A862-4572-B2F0-7A2E0677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52FE-9A95-4339-93BF-1D899EBF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0EDED3-63CD-4F43-AC4C-9FADAAF6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D9AD62-F91D-44C8-8FC6-8A8785B7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97C4D8-F332-4370-BEE2-534BC4E3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F45B35-DC2F-4358-895F-414A24ED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2EBCAD-3157-4E05-8D57-828FF7BC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BC204A-C613-4A74-8634-3E945D46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93F62C-B26F-4AEB-B02C-7351325F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C5DFC9-8C1E-4811-A992-59FB0DD0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5A1F39-EA36-4DBE-9D74-FB4F110F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CAAD35-B471-42D7-B1DD-2EA13971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0443-68BE-4ABA-A7BF-9C15C61E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558CC8-1DED-431A-8E0F-4DD652AD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201023-9419-4CE0-AAC0-6D1E82D2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996A88-769F-47BA-ACDE-647BA8C4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0472BA-F300-4E88-8000-340A4188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5E1398-BF2B-4AD8-A468-64A0DE1E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91B93B-1000-448B-B71E-01315FD7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EA371F-F0EA-45E7-9879-B59A9298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477FE8-3BA4-4C6B-9AD9-266015A2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57ED24-F2F5-4E56-ABDC-4FCE6CAC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B5C814-9F01-4743-AA32-B0805649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791A-375A-42AB-ADAE-823125FF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2A76B3-BC03-44A3-B2C0-3B3DE0E7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43B613-DB9F-44CF-89F0-47B174B2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A2A21C-0CCF-4B3B-8BCA-5A3698BF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917EA6-EBBF-4543-828A-8547E6AD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31E4E2-B37B-4E31-BEC3-D407ACEB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30689D-40C4-4AA7-9D80-03AE2400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049925-0857-4D2C-A91D-338EEB37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AD4403-C4D1-4C6F-8576-549B267C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05503F-E83D-4D79-9651-420B3468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2D3AD4-9ACD-4E84-929F-1061C810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48393-7175-4590-A740-7B07B224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5A6A2C-27A1-4232-B251-C3615E90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4C48AB-2598-4094-9DFE-45E9A0DF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EEC852-B6F3-4893-A0C7-156B428D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0F9C3-18C0-4C4D-BD01-48AA4E6C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8304-3829-4205-8D04-E558818E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214FD-DB25-4769-8058-C1FD8D59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45066-2C10-48D9-AD9B-A169BB46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A31-D1BF-4F44-9A98-0A3C2729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4FBB0-7FAB-426D-96C7-F7D3AD0C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97D27-06E4-492E-BE5B-0F051EE2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C570E-764E-4E9C-8BE3-6383DBD3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86729-D81A-46A5-B93C-FC7F6F2C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6F748-793E-45CB-8C18-DB2B3F85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DCB9-7C69-49CE-B01B-2210769D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BDD94-6CBF-48EB-BA4E-5DC8E116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1A3BC-C4A8-4837-98FF-F6151017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494D8-4D59-41EE-AA48-C49606F1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8AAA5-0875-43B5-AF8F-DA8FAA92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087-EFDA-4690-B409-F73D4A3C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60741-1CFB-47FE-AC31-F037217F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A5CE1-B544-4C24-B4A3-F2CC5CD2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625B1-5F54-4F4E-8657-E4FE26B4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55F48-8843-4376-9CC5-F01B8A71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0818F-5A1F-4757-8AD2-2E23CD20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50753-4627-407C-A082-7262F9C9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0F42E-DA58-47D9-8965-06E60FDA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392CF-C0E6-4E41-BBCC-150D0C66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82EB-5474-4EF1-9141-84DB3D37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1272A-5CB3-46D2-B7BC-2FF7B4FE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271D-43CD-4282-9157-67FA8E84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F9441-5B3B-460E-93B2-C9B4AE74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28B61-B202-46ED-BD46-72360153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77630-95F0-409F-B993-BCEB4A89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E69AA-0D8B-4303-A66D-268D8637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D853B-BB01-41E2-8E5A-E1EA3F35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F1BA4-26E9-4BE6-B1D3-2BD747A0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6498F-C03B-4802-8AE0-2364BE71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2B1B9-E050-466E-BF23-805A2266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CD7F7-6B57-48FB-B3A9-715162DA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8CAB2-2D5B-4D6E-B618-B7B81C15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864-8B2E-476A-A106-1830B6DE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0ADCA-96D8-46C1-A1D6-5F577B8E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D3B29-107D-487C-B923-7D9C065A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84069-1154-428E-965C-D0D664FF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0BB97-28C8-4491-A345-C3F2A645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2858D-FE35-4EC5-91F0-C3CEDEBB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8E5A7-DC06-4BA8-81A3-489F5A9B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482B9-BD83-48E0-8DF2-11DFC1EC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D39CF-8F85-432C-B5F0-88F5FCBF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904E3-E177-4DE5-8F54-5EA03945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F64DB-083F-42D8-8298-35F57B3A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739-026C-4024-ACF1-54CB402D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845C3-E0D8-4AD5-918F-6469A338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6BC3D-27B8-4EDF-AAF5-4799A975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39282-D431-4CCC-AC78-D6C58BFA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3BC2D-FC57-4281-BDC6-86702EA0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9EE42-A231-417D-87AD-8331DD27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E2174-EC0E-4FC6-8BAB-A8CFB9D8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5DF80-D0E7-4D79-8F20-DB83A5BA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D510A-EAF6-4D38-BBB1-0998D4A5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73175-5ECF-40B4-92A7-79EC8961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DF4DF-FACF-4E08-9B38-3E88DCCF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A2C5-7855-48B3-A446-57AC03DE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A33B8-5760-4DA6-8EEC-61664C2C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3E935-BB69-417D-A95C-49FE910D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11317-A766-4C8B-97E1-B173BED7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52BAD-4B86-4FE4-ADD3-3267F3F8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29F97-69E8-4D63-9A99-00842F1B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B89D4-341F-4CDC-9811-9AB63F16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B260B-010A-4532-B4DE-C503244C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F21E8-8DA5-4D5C-B83F-FF52F74D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D090B-DB59-4CBB-8755-19033AAB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F1BDA-DEAF-4F24-AB14-8FB9F8ED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BBF-509D-4DB4-A245-F8223695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E587E-38DE-4039-8BD4-DED4D084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A0530-A814-4E41-A278-4686DC98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E2EEF-55B1-4623-9DC9-0AB61239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3FBE2-9AD7-4FC1-A819-FF215C1C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5131E-8D07-4F3E-ADA6-AE103A87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76847-9E22-4EDF-84DA-C0D967CC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DD966-ED8B-427F-A0CD-50B2DB73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CA058-319E-4569-B8C4-7BBA9554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14D19-B3B0-452C-99D5-1B9AF686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4E607-F973-4405-9A87-06B2CA8F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76DC-D963-4851-9679-3EA6B43555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02A2-F5F3-4818-B792-270CCDAF38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F2E5-BADD-4F4A-B70F-F5A488C6AB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5FD2-3F07-4232-84CD-DEC70E3D2B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C473-1348-4793-AD5F-A746563F88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5690-2E33-43B4-86BA-725E24467B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D4F9-A88B-4CD1-9FBC-D3C6FE8178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CFF6-6488-47B9-A9D1-146179AD57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BB0E-F6BE-49E0-87F3-E813C80A39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6840" y="305280"/>
            <a:ext cx="1312560" cy="1675440"/>
            <a:chOff x="6840" y="305280"/>
            <a:chExt cx="1312560" cy="167544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5440" y="135576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58480" y="391680"/>
              <a:ext cx="72864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0640" y="32292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4680" y="842760"/>
              <a:ext cx="40032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4040" y="149004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7549-DDD2-4833-A012-8C43483FC8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06CD-4C9C-4024-A3DB-0BDA9BDA51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5440"/>
            <a:ext cx="1127520" cy="1044000"/>
            <a:chOff x="8055360" y="5725440"/>
            <a:chExt cx="1127520" cy="104400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040" y="5725440"/>
              <a:ext cx="597960" cy="968040"/>
              <a:chOff x="8456040" y="5725440"/>
              <a:chExt cx="59796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3920" y="632916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7120"/>
                <a:ext cx="544320" cy="42948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680" y="576576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720" y="6070680"/>
                <a:ext cx="299160" cy="23868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0680"/>
                <a:ext cx="32256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4040"/>
              <a:ext cx="1127520" cy="905400"/>
              <a:chOff x="8055360" y="586404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4840" y="5953320"/>
                <a:ext cx="544680" cy="7261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56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E830-59BC-43BF-9B66-7E5FA81DE6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FDD6-3A75-44F8-84B7-577D37ED70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531D-2670-4ACB-A9C3-0BB379A88B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E5A6-D6D0-4FB0-B897-138D260E64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120" y="5384520"/>
            <a:ext cx="997920" cy="1126800"/>
            <a:chOff x="18612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3680" y="5384520"/>
              <a:ext cx="616320" cy="1043640"/>
              <a:chOff x="283680" y="5384520"/>
              <a:chExt cx="616320" cy="104364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1080" y="604548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9320" y="5536800"/>
                <a:ext cx="545040" cy="42948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1560" y="5435280"/>
                <a:ext cx="221760" cy="1706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760" y="5771160"/>
                <a:ext cx="299520" cy="23868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480" y="6157800"/>
                <a:ext cx="32328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120" y="5572440"/>
              <a:ext cx="997920" cy="938880"/>
              <a:chOff x="186120" y="5572440"/>
              <a:chExt cx="997920" cy="93888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2320" y="5643000"/>
                <a:ext cx="544680" cy="72720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520" y="622008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2000" y="6239520"/>
                <a:ext cx="17460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4A44-40D1-48CC-9AFE-9E4E23F0B3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89F6-95EC-4455-B023-3060E6FF5D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06A8-E572-4D0B-B3C3-A054806FBE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2E58-5FFF-475C-BA4E-7BAEC7665C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F4BE-9707-4CED-89FD-D9A340E0B5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059F-47F6-4C9A-B698-03E374B663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49CE-F204-49C7-807A-67FE6D30ED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DF9B-9A47-485E-853F-7EFECF9D23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204F-BABA-4372-B65B-9B9BAF299A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C96B-615F-42B4-898C-90CB8028E1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4680"/>
            <a:ext cx="2348280" cy="2297160"/>
            <a:chOff x="7144920" y="441468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2880" y="4414680"/>
              <a:ext cx="1362960" cy="2297160"/>
              <a:chOff x="7652880" y="441468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440" y="587124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040" y="475200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040" y="452736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160" y="526716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240" y="611820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6658-041B-4001-907D-5F8F6D23CB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1836-329F-40E1-9CF8-FF2C755376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55D1-439C-4E17-A393-8975C1C4F3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D348-492D-48E8-9A1F-DE82F1654B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0E42-51FE-4843-9CE1-2CE1ABFD70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A59D-AF26-4AA0-9B8B-1A27EE73D1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96F2-33A4-4979-9F07-4687201437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EFA1-AC4F-4B17-87B1-6E2BC2ED3E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DCF8-56EE-4669-AAB5-9C501593AE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B74B-DBA5-453C-B0BE-E89E83BFCE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9378-0973-4275-8E6B-CF0774AB66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27C9-1E9A-44C4-9D29-DF8651C5B1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9F67-A14E-42A4-BFA7-DF29E19EF2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9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3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文本框 25" descr=""/>
          <p:cNvPicPr/>
          <p:nvPr/>
        </p:nvPicPr>
        <p:blipFill>
          <a:blip r:embed="rId2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47" descr=""/>
          <p:cNvPicPr/>
          <p:nvPr/>
        </p:nvPicPr>
        <p:blipFill>
          <a:blip r:embed="rId3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9" descr=""/>
          <p:cNvPicPr/>
          <p:nvPr/>
        </p:nvPicPr>
        <p:blipFill>
          <a:blip r:embed="rId4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51" descr=""/>
          <p:cNvPicPr/>
          <p:nvPr/>
        </p:nvPicPr>
        <p:blipFill>
          <a:blip r:embed="rId5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2" name="组合 5" descr=""/>
          <p:cNvPicPr/>
          <p:nvPr/>
        </p:nvPicPr>
        <p:blipFill>
          <a:blip r:embed="rId6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0AC5-F641-4F2B-82B6-41AE5381C0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1DBA-8F66-4BEB-B49F-18E94FE796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矩形 1" descr=""/>
          <p:cNvPicPr/>
          <p:nvPr/>
        </p:nvPicPr>
        <p:blipFill>
          <a:blip r:embed="rId1"/>
          <a:stretch/>
        </p:blipFill>
        <p:spPr>
          <a:xfrm>
            <a:off x="2644920" y="2828880"/>
            <a:ext cx="4017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69633" descr=""/>
          <p:cNvPicPr/>
          <p:nvPr/>
        </p:nvPicPr>
        <p:blipFill>
          <a:blip r:embed="rId1"/>
          <a:stretch/>
        </p:blipFill>
        <p:spPr>
          <a:xfrm>
            <a:off x="361800" y="942840"/>
            <a:ext cx="8420400" cy="49723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468360" y="2300400"/>
            <a:ext cx="4680000" cy="4428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324000" y="2781360"/>
            <a:ext cx="4679640" cy="8636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539640" y="3645000"/>
            <a:ext cx="4680000" cy="4428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611280" y="4091040"/>
            <a:ext cx="4680000" cy="4428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539640" y="4581360"/>
            <a:ext cx="4680000" cy="4431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7"/>
          <a:stretch/>
        </p:blipFill>
        <p:spPr>
          <a:xfrm>
            <a:off x="468360" y="5027760"/>
            <a:ext cx="4680000" cy="4428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8"/>
          <a:stretch/>
        </p:blipFill>
        <p:spPr>
          <a:xfrm>
            <a:off x="468360" y="5473800"/>
            <a:ext cx="46800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68609" descr=""/>
          <p:cNvPicPr/>
          <p:nvPr/>
        </p:nvPicPr>
        <p:blipFill>
          <a:blip r:embed="rId1"/>
          <a:stretch/>
        </p:blipFill>
        <p:spPr>
          <a:xfrm>
            <a:off x="395280" y="1414440"/>
            <a:ext cx="8353440" cy="4029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7704000" cy="4428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395280" y="1930320"/>
            <a:ext cx="7704000" cy="8510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395280" y="2781360"/>
            <a:ext cx="7704000" cy="8506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468360" y="3645000"/>
            <a:ext cx="8351640" cy="4428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6"/>
          <a:stretch/>
        </p:blipFill>
        <p:spPr>
          <a:xfrm>
            <a:off x="395280" y="4091040"/>
            <a:ext cx="8352000" cy="4428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7"/>
          <a:stretch/>
        </p:blipFill>
        <p:spPr>
          <a:xfrm>
            <a:off x="395280" y="4581360"/>
            <a:ext cx="8352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67585" descr=""/>
          <p:cNvPicPr/>
          <p:nvPr/>
        </p:nvPicPr>
        <p:blipFill>
          <a:blip r:embed="rId1"/>
          <a:stretch/>
        </p:blipFill>
        <p:spPr>
          <a:xfrm>
            <a:off x="271440" y="784080"/>
            <a:ext cx="8601120" cy="55245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7596360" y="1211400"/>
            <a:ext cx="1223640" cy="4428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539640" y="1643040"/>
            <a:ext cx="1224000" cy="4428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4341960" y="2104920"/>
            <a:ext cx="502920" cy="4431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1908000" y="2579760"/>
            <a:ext cx="1008360" cy="4428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6"/>
          <a:stretch/>
        </p:blipFill>
        <p:spPr>
          <a:xfrm>
            <a:off x="1130400" y="3095640"/>
            <a:ext cx="1368360" cy="4017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7"/>
          <a:stretch/>
        </p:blipFill>
        <p:spPr>
          <a:xfrm>
            <a:off x="1187280" y="4897440"/>
            <a:ext cx="1368720" cy="401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8"/>
          <a:stretch/>
        </p:blipFill>
        <p:spPr>
          <a:xfrm>
            <a:off x="7380360" y="5805360"/>
            <a:ext cx="64764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66561" descr=""/>
          <p:cNvPicPr/>
          <p:nvPr/>
        </p:nvPicPr>
        <p:blipFill>
          <a:blip r:embed="rId1"/>
          <a:stretch/>
        </p:blipFill>
        <p:spPr>
          <a:xfrm>
            <a:off x="281160" y="1095480"/>
            <a:ext cx="858168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组合 65539"/>
          <p:cNvGrpSpPr/>
          <p:nvPr/>
        </p:nvGrpSpPr>
        <p:grpSpPr>
          <a:xfrm>
            <a:off x="390600" y="836640"/>
            <a:ext cx="8362800" cy="5877000"/>
            <a:chOff x="390600" y="836640"/>
            <a:chExt cx="8362800" cy="5877000"/>
          </a:xfrm>
        </p:grpSpPr>
        <p:pic>
          <p:nvPicPr>
            <p:cNvPr id="1072" name="图片 65537" descr=""/>
            <p:cNvPicPr/>
            <p:nvPr/>
          </p:nvPicPr>
          <p:blipFill>
            <a:blip r:embed="rId1"/>
            <a:stretch/>
          </p:blipFill>
          <p:spPr>
            <a:xfrm>
              <a:off x="390600" y="836640"/>
              <a:ext cx="8362800" cy="40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图片 65538" descr=""/>
            <p:cNvPicPr/>
            <p:nvPr/>
          </p:nvPicPr>
          <p:blipFill>
            <a:blip r:embed="rId2"/>
            <a:stretch/>
          </p:blipFill>
          <p:spPr>
            <a:xfrm>
              <a:off x="684360" y="4941720"/>
              <a:ext cx="7991280" cy="177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图片 64513" descr=""/>
          <p:cNvPicPr/>
          <p:nvPr/>
        </p:nvPicPr>
        <p:blipFill>
          <a:blip r:embed="rId1"/>
          <a:stretch/>
        </p:blipFill>
        <p:spPr>
          <a:xfrm>
            <a:off x="755640" y="1027080"/>
            <a:ext cx="8058240" cy="45626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6696000" cy="4428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3"/>
          <a:stretch/>
        </p:blipFill>
        <p:spPr>
          <a:xfrm>
            <a:off x="684360" y="1571760"/>
            <a:ext cx="6696000" cy="7776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4"/>
          <a:stretch/>
        </p:blipFill>
        <p:spPr>
          <a:xfrm>
            <a:off x="611280" y="2349360"/>
            <a:ext cx="6696000" cy="4431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5"/>
          <a:stretch/>
        </p:blipFill>
        <p:spPr>
          <a:xfrm>
            <a:off x="611280" y="2867040"/>
            <a:ext cx="8208720" cy="4428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6"/>
          <a:stretch/>
        </p:blipFill>
        <p:spPr>
          <a:xfrm>
            <a:off x="684360" y="3298680"/>
            <a:ext cx="8208720" cy="4431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7"/>
          <a:stretch/>
        </p:blipFill>
        <p:spPr>
          <a:xfrm>
            <a:off x="611280" y="3745080"/>
            <a:ext cx="8208720" cy="4428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8"/>
          <a:stretch/>
        </p:blipFill>
        <p:spPr>
          <a:xfrm>
            <a:off x="611280" y="4278240"/>
            <a:ext cx="8208720" cy="4431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9"/>
          <a:stretch/>
        </p:blipFill>
        <p:spPr>
          <a:xfrm>
            <a:off x="684360" y="4710240"/>
            <a:ext cx="8208720" cy="4428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10"/>
          <a:stretch/>
        </p:blipFill>
        <p:spPr>
          <a:xfrm>
            <a:off x="611280" y="5157720"/>
            <a:ext cx="82087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图片 63489" descr=""/>
          <p:cNvPicPr/>
          <p:nvPr/>
        </p:nvPicPr>
        <p:blipFill>
          <a:blip r:embed="rId1"/>
          <a:stretch/>
        </p:blipFill>
        <p:spPr>
          <a:xfrm>
            <a:off x="852480" y="2281320"/>
            <a:ext cx="7439040" cy="22953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2"/>
          <a:stretch/>
        </p:blipFill>
        <p:spPr>
          <a:xfrm>
            <a:off x="468360" y="2300400"/>
            <a:ext cx="5472000" cy="44280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3"/>
          <a:stretch/>
        </p:blipFill>
        <p:spPr>
          <a:xfrm>
            <a:off x="468360" y="2781360"/>
            <a:ext cx="7991280" cy="4428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4"/>
          <a:stretch/>
        </p:blipFill>
        <p:spPr>
          <a:xfrm>
            <a:off x="539640" y="3270240"/>
            <a:ext cx="7991640" cy="4428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5"/>
          <a:stretch/>
        </p:blipFill>
        <p:spPr>
          <a:xfrm>
            <a:off x="539640" y="3745080"/>
            <a:ext cx="799164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图片 62465" descr=""/>
          <p:cNvPicPr/>
          <p:nvPr/>
        </p:nvPicPr>
        <p:blipFill>
          <a:blip r:embed="rId1"/>
          <a:stretch/>
        </p:blipFill>
        <p:spPr>
          <a:xfrm>
            <a:off x="428760" y="1152360"/>
            <a:ext cx="8286480" cy="45532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7777080" cy="4431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3"/>
          <a:stretch/>
        </p:blipFill>
        <p:spPr>
          <a:xfrm>
            <a:off x="468360" y="1600200"/>
            <a:ext cx="7777080" cy="8920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4"/>
          <a:stretch/>
        </p:blipFill>
        <p:spPr>
          <a:xfrm>
            <a:off x="395280" y="2506680"/>
            <a:ext cx="7777080" cy="8920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5"/>
          <a:stretch/>
        </p:blipFill>
        <p:spPr>
          <a:xfrm>
            <a:off x="539640" y="3386160"/>
            <a:ext cx="8280360" cy="4428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6"/>
          <a:stretch/>
        </p:blipFill>
        <p:spPr>
          <a:xfrm>
            <a:off x="468360" y="3860640"/>
            <a:ext cx="8280360" cy="4431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7"/>
          <a:stretch/>
        </p:blipFill>
        <p:spPr>
          <a:xfrm>
            <a:off x="395280" y="4307040"/>
            <a:ext cx="8280360" cy="4428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8"/>
          <a:stretch/>
        </p:blipFill>
        <p:spPr>
          <a:xfrm>
            <a:off x="395280" y="4826160"/>
            <a:ext cx="82803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图片 61441" descr=""/>
          <p:cNvPicPr/>
          <p:nvPr/>
        </p:nvPicPr>
        <p:blipFill>
          <a:blip r:embed="rId1"/>
          <a:stretch/>
        </p:blipFill>
        <p:spPr>
          <a:xfrm>
            <a:off x="223920" y="1800360"/>
            <a:ext cx="8696160" cy="32572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2"/>
          <a:stretch/>
        </p:blipFill>
        <p:spPr>
          <a:xfrm>
            <a:off x="8028000" y="2852640"/>
            <a:ext cx="50328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图片 70657" descr=""/>
          <p:cNvPicPr/>
          <p:nvPr/>
        </p:nvPicPr>
        <p:blipFill>
          <a:blip r:embed="rId1"/>
          <a:stretch/>
        </p:blipFill>
        <p:spPr>
          <a:xfrm>
            <a:off x="243000" y="1071720"/>
            <a:ext cx="8658000" cy="47145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2"/>
          <a:stretch/>
        </p:blipFill>
        <p:spPr>
          <a:xfrm>
            <a:off x="6732720" y="4349880"/>
            <a:ext cx="503280" cy="4428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3"/>
          <a:stretch/>
        </p:blipFill>
        <p:spPr>
          <a:xfrm>
            <a:off x="4643280" y="5272200"/>
            <a:ext cx="8654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57320" y="1090440"/>
            <a:ext cx="8829360" cy="46771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3564000" y="3054240"/>
            <a:ext cx="863640" cy="3794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3780000" y="4192560"/>
            <a:ext cx="863280" cy="3794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2771640" y="5300640"/>
            <a:ext cx="115272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59410" descr=""/>
          <p:cNvPicPr/>
          <p:nvPr/>
        </p:nvPicPr>
        <p:blipFill>
          <a:blip r:embed="rId1"/>
          <a:stretch/>
        </p:blipFill>
        <p:spPr>
          <a:xfrm>
            <a:off x="204840" y="852480"/>
            <a:ext cx="8734320" cy="56008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5867280" y="5402160"/>
            <a:ext cx="1944720" cy="379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3549600" y="5964120"/>
            <a:ext cx="64764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58373" descr=""/>
          <p:cNvPicPr/>
          <p:nvPr/>
        </p:nvPicPr>
        <p:blipFill>
          <a:blip r:embed="rId1"/>
          <a:stretch/>
        </p:blipFill>
        <p:spPr>
          <a:xfrm>
            <a:off x="223920" y="1504800"/>
            <a:ext cx="8696160" cy="3848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8101080" y="2665440"/>
            <a:ext cx="43164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组合 57354"/>
          <p:cNvGrpSpPr/>
          <p:nvPr/>
        </p:nvGrpSpPr>
        <p:grpSpPr>
          <a:xfrm>
            <a:off x="233280" y="1268280"/>
            <a:ext cx="8677440" cy="4399200"/>
            <a:chOff x="233280" y="1268280"/>
            <a:chExt cx="8677440" cy="4399200"/>
          </a:xfrm>
        </p:grpSpPr>
        <p:pic>
          <p:nvPicPr>
            <p:cNvPr id="1033" name="图片 57352" descr=""/>
            <p:cNvPicPr/>
            <p:nvPr/>
          </p:nvPicPr>
          <p:blipFill>
            <a:blip r:embed="rId1"/>
            <a:stretch/>
          </p:blipFill>
          <p:spPr>
            <a:xfrm>
              <a:off x="233280" y="1268280"/>
              <a:ext cx="8677440" cy="27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图片 57353" descr=""/>
            <p:cNvPicPr/>
            <p:nvPr/>
          </p:nvPicPr>
          <p:blipFill>
            <a:blip r:embed="rId2"/>
            <a:stretch/>
          </p:blipFill>
          <p:spPr>
            <a:xfrm>
              <a:off x="539640" y="4048200"/>
              <a:ext cx="4533840" cy="161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8028000" y="2997360"/>
            <a:ext cx="431640" cy="37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56324" descr=""/>
          <p:cNvPicPr/>
          <p:nvPr/>
        </p:nvPicPr>
        <p:blipFill>
          <a:blip r:embed="rId1"/>
          <a:stretch/>
        </p:blipFill>
        <p:spPr>
          <a:xfrm>
            <a:off x="219240" y="1171440"/>
            <a:ext cx="8705520" cy="4515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8101080" y="4610160"/>
            <a:ext cx="43164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组合 55302"/>
          <p:cNvGrpSpPr/>
          <p:nvPr/>
        </p:nvGrpSpPr>
        <p:grpSpPr>
          <a:xfrm>
            <a:off x="249120" y="189000"/>
            <a:ext cx="8715600" cy="6564240"/>
            <a:chOff x="249120" y="189000"/>
            <a:chExt cx="8715600" cy="6564240"/>
          </a:xfrm>
        </p:grpSpPr>
        <p:pic>
          <p:nvPicPr>
            <p:cNvPr id="1039" name="图片 55300" descr=""/>
            <p:cNvPicPr/>
            <p:nvPr/>
          </p:nvPicPr>
          <p:blipFill>
            <a:blip r:embed="rId1"/>
            <a:stretch/>
          </p:blipFill>
          <p:spPr>
            <a:xfrm>
              <a:off x="249120" y="189000"/>
              <a:ext cx="8715600" cy="55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图片 55301" descr=""/>
            <p:cNvPicPr/>
            <p:nvPr/>
          </p:nvPicPr>
          <p:blipFill>
            <a:blip r:embed="rId2"/>
            <a:stretch/>
          </p:blipFill>
          <p:spPr>
            <a:xfrm>
              <a:off x="611280" y="5734080"/>
              <a:ext cx="6467400" cy="101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8086680" y="3040200"/>
            <a:ext cx="43200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4276" descr=""/>
          <p:cNvPicPr/>
          <p:nvPr/>
        </p:nvPicPr>
        <p:blipFill>
          <a:blip r:embed="rId1"/>
          <a:stretch/>
        </p:blipFill>
        <p:spPr>
          <a:xfrm>
            <a:off x="219240" y="758880"/>
            <a:ext cx="8705520" cy="5838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3203640" y="1916280"/>
            <a:ext cx="1224000" cy="3790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6588000" y="1930320"/>
            <a:ext cx="792360" cy="3794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6516720" y="4235400"/>
            <a:ext cx="107964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52231" descr=""/>
          <p:cNvPicPr/>
          <p:nvPr/>
        </p:nvPicPr>
        <p:blipFill>
          <a:blip r:embed="rId1"/>
          <a:stretch/>
        </p:blipFill>
        <p:spPr>
          <a:xfrm>
            <a:off x="237960" y="1162080"/>
            <a:ext cx="8668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3:17:06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